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56A-3A44-4E62-B5AC-5C1A226E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4FE-462C-42FD-9FD4-6F3746B8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B1C-7B53-4FCB-A5D2-7C594E9A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33F-B1D7-4154-A1FB-2C63F457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ACBE-BF56-425F-95FF-764A5224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849F-9F07-46A5-AC5C-9E459A62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33B4-BD1C-4332-ABB5-7AE82B8E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A036-B256-414F-813D-494EEB7D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0CB6-2251-42D2-8F77-8EC12C2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E127-D50E-4836-94C6-05542E93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8830-2D54-4C4B-99AA-B117E3B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CCB-F55F-4BFD-AEE3-4AFC77E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CD9D-563F-4A22-84E9-B8F8FEF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0990-3579-47A3-9ED5-CCF53347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45DE-73B4-4B0D-935A-24A3279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3D1E-DBAF-44BC-BA93-12BCBFDC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4D72-CD73-4B5A-9D47-FC29DF73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9A1-C103-4EC6-A733-30CF6011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176-C20A-443B-9F0F-859B70DD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9A8-19F9-406A-BA4E-ED67D9F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CFF-D57B-476F-ACD4-D3F73302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C47-000B-440D-9FAC-0E59A5CA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4FE-EA2D-401E-B866-21C3ED5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147-88E6-4C40-82B5-E328171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4FB1DB-CFD8-4E60-84EF-74E97706840C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EB557-2404-4F47-AA8D-A3AFAB030B43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vents.taics.org.tw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102240"/>
            <a:ext cx="1219176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832040" y="0"/>
            <a:ext cx="85276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33520" y="585720"/>
            <a:ext cx="1112472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771480" y="771480"/>
            <a:ext cx="1064844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319120" y="0"/>
            <a:ext cx="7553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906560" y="0"/>
            <a:ext cx="837828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941400" y="0"/>
            <a:ext cx="1030896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9421200" y="6361560"/>
            <a:ext cx="262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events.taics.org.tw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1F2CC836515B714393A5FE1B0FB62950" ma:contentTypeVersion="10" ma:contentTypeDescription="Crée un document." ma:contentTypeScope="" ma:versionID="268952bca04031d4494577dfd87a5656">
  <xsd:schema xmlns:xsd="http://www.w3.org/2001/XMLSchema" xmlns:xs="http://www.w3.org/2001/XMLSchema" xmlns:p="http://schemas.microsoft.com/office/2006/metadata/properties" xmlns:ns2="9a53c63a-872d-4037-b8d0-71ff243a8d75" xmlns:ns3="247cb5a1-4c13-4c44-9ca0-72e6f939c15e" targetNamespace="http://schemas.microsoft.com/office/2006/metadata/properties" ma:root="true" ma:fieldsID="c8b212de9b0befa09751009efe475dd9" ns2:_="" ns3:_="">
    <xsd:import namespace="9a53c63a-872d-4037-b8d0-71ff243a8d75"/>
    <xsd:import namespace="247cb5a1-4c13-4c44-9ca0-72e6f939c15e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DateTaken" minOccurs="0"/>
                <xsd:element ref="ns2:MediaServiceAutoTags" minOccurs="0"/>
                <xsd:element ref="ns3:SharedWithUsers" minOccurs="0"/>
                <xsd:element ref="ns3:SharedWithDetails" minOccurs="0"/>
                <xsd:element ref="ns2:MediaServiceEventHashCode" minOccurs="0"/>
                <xsd:element ref="ns2:MediaServiceGenerationTime" minOccurs="0"/>
                <xsd:element ref="ns2:MediaServiceOCR" minOccurs="0"/>
                <xsd:element ref="ns2:MediaServiceLocatio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a53c63a-872d-4037-b8d0-71ff243a8d75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DateTaken" ma:index="10" nillable="true" ma:displayName="MediaServiceDateTaken" ma:hidden="true" ma:internalName="MediaServiceDateTaken" ma:readOnly="true">
      <xsd:simpleType>
        <xsd:restriction base="dms:Text"/>
      </xsd:simpleType>
    </xsd:element>
    <xsd:element name="MediaServiceAutoTags" ma:index="11" nillable="true" ma:displayName="MediaServiceAutoTags" ma:internalName="MediaServiceAutoTags" ma:readOnly="true">
      <xsd:simpleType>
        <xsd:restriction base="dms:Text"/>
      </xsd:simpleType>
    </xsd:element>
    <xsd:element name="MediaServiceEventHashCode" ma:index="14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5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OCR" ma:index="16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Location" ma:index="17" nillable="true" ma:displayName="Location" ma:internalName="MediaServiceLocation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247cb5a1-4c13-4c44-9ca0-72e6f939c15e" elementFormDefault="qualified">
    <xsd:import namespace="http://schemas.microsoft.com/office/2006/documentManagement/types"/>
    <xsd:import namespace="http://schemas.microsoft.com/office/infopath/2007/PartnerControls"/>
    <xsd:element name="SharedWithUsers" ma:index="12" nillable="true" ma:displayName="Partagé avec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3" nillable="true" ma:displayName="Partagé avec dé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Type de contenu"/>
        <xsd:element ref="dc:title" minOccurs="0" maxOccurs="1" ma:index="4" ma:displayName="Titr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00BA8F4A-85FE-4DD2-A601-468DA44FEB8D}">
  <ds:schemaRefs>
    <ds:schemaRef ds:uri="247cb5a1-4c13-4c44-9ca0-72e6f939c15e"/>
    <ds:schemaRef ds:uri="http://purl.org/dc/terms/"/>
    <ds:schemaRef ds:uri="http://schemas.openxmlformats.org/package/2006/metadata/core-properties"/>
    <ds:schemaRef ds:uri="http://purl.org/dc/dcmitype/"/>
    <ds:schemaRef ds:uri="http://schemas.microsoft.com/office/infopath/2007/PartnerControls"/>
    <ds:schemaRef ds:uri="http://schemas.microsoft.com/office/2006/documentManagement/types"/>
    <ds:schemaRef ds:uri="http://purl.org/dc/elements/1.1/"/>
    <ds:schemaRef ds:uri="http://schemas.microsoft.com/office/2006/metadata/properties"/>
    <ds:schemaRef ds:uri="9a53c63a-872d-4037-b8d0-71ff243a8d75"/>
    <ds:schemaRef ds:uri="http://www.w3.org/XML/1998/namespace"/>
  </ds:schemaRefs>
</ds:datastoreItem>
</file>

<file path=customXml/itemProps2.xml><?xml version="1.0" encoding="utf-8"?>
<ds:datastoreItem xmlns:ds="http://schemas.openxmlformats.org/officeDocument/2006/customXml" ds:itemID="{EEC085E4-C8B4-42A7-858D-72F010E38458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CC71D03F-5F0F-4A67-98F5-9AB34B5D1483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9a53c63a-872d-4037-b8d0-71ff243a8d75"/>
    <ds:schemaRef ds:uri="247cb5a1-4c13-4c44-9ca0-72e6f939c15e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10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1T12:58:50Z</dcterms:created>
  <dc:creator>Pierre-Alain Cerdan</dc:creator>
  <dc:description/>
  <dc:language>en-US</dc:language>
  <cp:lastModifiedBy>Geraldine Rey</cp:lastModifiedBy>
  <dcterms:modified xsi:type="dcterms:W3CDTF">2019-10-08T16:07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F2CC836515B714393A5FE1B0FB62950</vt:lpwstr>
  </property>
  <property fmtid="{D5CDD505-2E9C-101B-9397-08002B2CF9AE}" pid="3" name="PresentationFormat">
    <vt:lpwstr>Widescreen</vt:lpwstr>
  </property>
  <property fmtid="{D5CDD505-2E9C-101B-9397-08002B2CF9AE}" pid="4" name="Slides">
    <vt:r8>7</vt:r8>
  </property>
</Properties>
</file>