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427-5683-4BC0-9D44-A86E6598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1E0-828E-4668-8076-A6210448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9AB-EB9F-4B33-9A27-19C6AB7E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75D-BA99-4FA1-8137-D05DBE1F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065E-23D1-4FE4-A0D6-94A7B267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0D58-9284-4D20-92B4-B75850AE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D7AB-7E7C-45B4-92F9-BA972475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2364-30B3-4C99-BC4A-C197EB10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6B6C-32F7-4ECB-87D5-D7B92DB7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A5CF-6BAF-4713-8256-C381BBAB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EE19-7011-4881-808B-7DCF4BB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6D9-4B46-4A3D-B73E-5BD2BBC5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1B59-E74C-4CCF-9947-4A7E971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1792-74BE-4285-A0D9-D38D071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F912-CBED-480C-8A62-B501619F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6299-AE19-4B6C-9D46-AAF67139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FE79-E253-4610-8C00-441C3D7B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798-6405-42DF-8D9D-00C008CB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207-8AAE-49D0-9EA0-946C4A76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C14-70CE-4280-A84D-0CDC0695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A53-D75E-44EE-A55F-DD20127B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8C6-E2DF-4497-93B9-68589BB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323-CC35-42BE-A416-BBA11001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A68-7BEA-467B-B2F9-F5B70684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20401D-7465-4A1E-92CC-38781B042365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EA3BB7-FAA3-4D5B-844F-8A1C5CC9ADEC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vents.taics.org.tw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102240"/>
            <a:ext cx="1219176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832040" y="0"/>
            <a:ext cx="85276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33520" y="585720"/>
            <a:ext cx="1112472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771480" y="771480"/>
            <a:ext cx="1064844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319120" y="0"/>
            <a:ext cx="7553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906560" y="0"/>
            <a:ext cx="8378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941400" y="0"/>
            <a:ext cx="1030896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9421200" y="6361560"/>
            <a:ext cx="262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events.taics.org.tw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1F2CC836515B714393A5FE1B0FB62950" ma:contentTypeVersion="10" ma:contentTypeDescription="Crée un document." ma:contentTypeScope="" ma:versionID="268952bca04031d4494577dfd87a5656">
  <xsd:schema xmlns:xsd="http://www.w3.org/2001/XMLSchema" xmlns:xs="http://www.w3.org/2001/XMLSchema" xmlns:p="http://schemas.microsoft.com/office/2006/metadata/properties" xmlns:ns2="9a53c63a-872d-4037-b8d0-71ff243a8d75" xmlns:ns3="247cb5a1-4c13-4c44-9ca0-72e6f939c15e" targetNamespace="http://schemas.microsoft.com/office/2006/metadata/properties" ma:root="true" ma:fieldsID="c8b212de9b0befa09751009efe475dd9" ns2:_="" ns3:_="">
    <xsd:import namespace="9a53c63a-872d-4037-b8d0-71ff243a8d75"/>
    <xsd:import namespace="247cb5a1-4c13-4c44-9ca0-72e6f939c15e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2:MediaServiceDateTaken" minOccurs="0"/>
                <xsd:element ref="ns2:MediaServiceAutoTags" minOccurs="0"/>
                <xsd:element ref="ns3:SharedWithUsers" minOccurs="0"/>
                <xsd:element ref="ns3:SharedWithDetails" minOccurs="0"/>
                <xsd:element ref="ns2:MediaServiceEventHashCode" minOccurs="0"/>
                <xsd:element ref="ns2:MediaServiceGenerationTime" minOccurs="0"/>
                <xsd:element ref="ns2:MediaServiceOCR" minOccurs="0"/>
                <xsd:element ref="ns2:MediaServiceLocation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9a53c63a-872d-4037-b8d0-71ff243a8d75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DateTaken" ma:index="10" nillable="true" ma:displayName="MediaServiceDateTaken" ma:hidden="true" ma:internalName="MediaServiceDateTaken" ma:readOnly="true">
      <xsd:simpleType>
        <xsd:restriction base="dms:Text"/>
      </xsd:simpleType>
    </xsd:element>
    <xsd:element name="MediaServiceAutoTags" ma:index="11" nillable="true" ma:displayName="MediaServiceAutoTags" ma:internalName="MediaServiceAutoTags" ma:readOnly="true">
      <xsd:simpleType>
        <xsd:restriction base="dms:Text"/>
      </xsd:simpleType>
    </xsd:element>
    <xsd:element name="MediaServiceEventHashCode" ma:index="14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GenerationTime" ma:index="15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OCR" ma:index="16" nillable="true" ma:displayName="MediaServiceOCR" ma:internalName="MediaServiceOCR" ma:readOnly="true">
      <xsd:simpleType>
        <xsd:restriction base="dms:Note">
          <xsd:maxLength value="255"/>
        </xsd:restriction>
      </xsd:simpleType>
    </xsd:element>
    <xsd:element name="MediaServiceLocation" ma:index="17" nillable="true" ma:displayName="Location" ma:internalName="MediaServiceLocation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247cb5a1-4c13-4c44-9ca0-72e6f939c15e" elementFormDefault="qualified">
    <xsd:import namespace="http://schemas.microsoft.com/office/2006/documentManagement/types"/>
    <xsd:import namespace="http://schemas.microsoft.com/office/infopath/2007/PartnerControls"/>
    <xsd:element name="SharedWithUsers" ma:index="12" nillable="true" ma:displayName="Partagé avec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3" nillable="true" ma:displayName="Partagé avec dé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Type de contenu"/>
        <xsd:element ref="dc:title" minOccurs="0" maxOccurs="1" ma:index="4" ma:displayName="Titr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00BA8F4A-85FE-4DD2-A601-468DA44FEB8D}">
  <ds:schemaRefs>
    <ds:schemaRef ds:uri="247cb5a1-4c13-4c44-9ca0-72e6f939c15e"/>
    <ds:schemaRef ds:uri="http://purl.org/dc/terms/"/>
    <ds:schemaRef ds:uri="http://schemas.openxmlformats.org/package/2006/metadata/core-properties"/>
    <ds:schemaRef ds:uri="http://purl.org/dc/dcmitype/"/>
    <ds:schemaRef ds:uri="http://schemas.microsoft.com/office/infopath/2007/PartnerControls"/>
    <ds:schemaRef ds:uri="http://schemas.microsoft.com/office/2006/documentManagement/types"/>
    <ds:schemaRef ds:uri="http://purl.org/dc/elements/1.1/"/>
    <ds:schemaRef ds:uri="http://schemas.microsoft.com/office/2006/metadata/properties"/>
    <ds:schemaRef ds:uri="9a53c63a-872d-4037-b8d0-71ff243a8d75"/>
    <ds:schemaRef ds:uri="http://www.w3.org/XML/1998/namespace"/>
  </ds:schemaRefs>
</ds:datastoreItem>
</file>

<file path=customXml/itemProps2.xml><?xml version="1.0" encoding="utf-8"?>
<ds:datastoreItem xmlns:ds="http://schemas.openxmlformats.org/officeDocument/2006/customXml" ds:itemID="{EEC085E4-C8B4-42A7-858D-72F010E38458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CC71D03F-5F0F-4A67-98F5-9AB34B5D1483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9a53c63a-872d-4037-b8d0-71ff243a8d75"/>
    <ds:schemaRef ds:uri="247cb5a1-4c13-4c44-9ca0-72e6f939c15e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10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1T12:58:50Z</dcterms:created>
  <dc:creator>Pierre-Alain Cerdan</dc:creator>
  <dc:description/>
  <dc:language>en-US</dc:language>
  <cp:lastModifiedBy>Geraldine Rey</cp:lastModifiedBy>
  <dcterms:modified xsi:type="dcterms:W3CDTF">2019-10-08T16:07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F2CC836515B714393A5FE1B0FB62950</vt:lpwstr>
  </property>
  <property fmtid="{D5CDD505-2E9C-101B-9397-08002B2CF9AE}" pid="3" name="PresentationFormat">
    <vt:lpwstr>Widescreen</vt:lpwstr>
  </property>
  <property fmtid="{D5CDD505-2E9C-101B-9397-08002B2CF9AE}" pid="4" name="Slides">
    <vt:r8>7</vt:r8>
  </property>
</Properties>
</file>